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9BD-D03E-486E-8213-B3F23512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192-6E92-4139-9028-A36C2A80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4418-2899-41E8-8C94-49481CC2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A77-7128-4D0C-B019-0A02FB85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25E4-A6A9-41C6-B817-16BFA587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F1B2-F26C-4036-BBD1-28264A42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E450-E31B-42D2-991D-C682A92C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B87F-D9BA-46A6-A7E2-A2EDF343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8FDD-459C-4CA1-971E-C05BDBBB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F446-AEC2-4AB8-B7D6-B69D7928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A5D6-988D-469D-9064-B63D5949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63F-7152-4534-BA84-EEE15CD8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F227-B602-4FB1-B60E-52C51701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9F9F-EB33-486E-963A-3481923A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3BB8-3DB4-4DBC-B29B-029581F7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AE0D-3787-45B3-8F1E-4448598C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D72A-02BD-49BF-B474-C6831AAC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BA5-1371-49DD-BC43-56923BD4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E7D-F94E-4444-AA5C-F4F0BE3D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FBF-EEFA-46E1-BA60-6D050699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319-33C0-437A-8BA8-1C1C5CA4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AC3-B9F8-47C3-A8E9-81A2E3A0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2A5-34EA-4C33-931E-3FBFED20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7D7-EEE0-468C-8468-2D2656CE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B3A8-5943-486B-A191-24ACAB2442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C07A-4AC9-4E25-992B-B1A63C5A2D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Ku Klux Klan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err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at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tri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0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istory of the klan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e Klan was lead by a former confederate general named Nathaniel Bedford For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s old version of the klan used terrorist tactics to intimidate former sl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 new version of the KKK came about in the early 19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e klan has many rituals that are still preformed tod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790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What  the KKK i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752480"/>
            <a:ext cx="83059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he klan is a terrorist group  that came about to terrorize other ethnical group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hey are all white Americans  who believed in a pure primary ra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hey also believed that  they were doing the right thing by eliminating the “problem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619440" cy="3619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How  the Klan came to powe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00cc"/>
                </a:solidFill>
                <a:latin typeface="Arial"/>
              </a:rPr>
              <a:t>The klan came to power because of the growing immigration popul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00cc"/>
                </a:solidFill>
                <a:latin typeface="Arial"/>
              </a:rPr>
              <a:t>They also were rising because most of the new members were born into it there ancestors were old  klans memb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933720" cy="2952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targets and the goal of the kla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Roman Catholics, Jews ,African Americans and foreigners were the most obvious targets of the kla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The goal of the klan was to “purify” the nation of   all non-American  Christian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62120" y="1933560"/>
            <a:ext cx="401976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her inform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After the world war 1 the klan was 3 million strong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Many of the 3 million were small business owners, independent professionals , clerical workers and farm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uring the early 1920 the klan helped elect 16 U.S. sen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the Ku  Klux Klan believed that they are defenders of prohibition, traditional morality an true Americanis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6058080" cy="4600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Other information conti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990000"/>
                </a:solidFill>
                <a:latin typeface="Arial"/>
              </a:rPr>
              <a:t>the klan claimed to control 24 of the nations 48 state legislature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5:25:25Z</dcterms:created>
  <dc:creator>TECH</dc:creator>
  <dc:description/>
  <dc:language>en-US</dc:language>
  <cp:lastModifiedBy>ASD</cp:lastModifiedBy>
  <dcterms:modified xsi:type="dcterms:W3CDTF">2010-06-22T21:11:02Z</dcterms:modified>
  <cp:revision>4</cp:revision>
  <dc:subject/>
  <dc:title>Ku Klux Klan</dc:title>
</cp:coreProperties>
</file>